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3EC-11C0-4E98-A06D-DFCA9907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F6F-A2C2-409D-BDBF-44C36334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C40DF-5868-4AF7-A573-F27D966C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16999-33FD-4BDD-B211-4FE07C05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E1855-1686-450A-B4FF-D73754CA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CC1E1-C420-4EA4-ADAF-15D8E0D1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ACF78-B874-4EBF-852E-59FAE5C0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7697F-1960-4BF3-8A9E-EA71BA07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1BBC4-7CD9-4BB5-B227-F4507270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2C4E2-B406-483F-8AEB-80EBE3E3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DD989-5A3E-4578-8183-3AE64721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6715D-9058-4C08-A601-6072A3E3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498-3912-4D04-BDA7-7209ADAE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3B567-025C-49F3-B60F-7DC7A64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02B22-AE97-48B8-B571-74FF99B4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C334A-4D52-4EB2-A3E1-75D10F4C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DD396-07A5-4124-A8AC-3BACB53E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BF285-DAE1-4DAC-A49B-D67ADE39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F12BC-0C0B-4445-8307-67A7CBDF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D1B76-56A6-4F09-8402-66E7835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1DF9A-05F2-45E3-94CE-26A9F8B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86033-9F7F-408F-88E2-CAD9DEDE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B3E40-EECC-450E-9772-09628946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FBE-702D-4E83-9831-CC39F078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65F4F-5CA7-4763-8851-DC1E7406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8F913-889C-462F-A87F-87F1C1BE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BDC61-1955-4C0F-9F60-D5EA9159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31762-435F-49D4-AB33-907E7751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17336-EB1C-4192-9CCE-75918CB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8582D-E51E-4E1D-8C80-E12889E9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B2131-1EF8-4073-AC20-6A0051B5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E05C7-59F2-41D7-8732-C438563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EDF7D-E606-406F-8B62-440DCF5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1924F-12A3-4D31-A265-410BFE3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8DC4-9361-4337-A6BA-6186FD9B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5EC53-C7EA-44E5-8D12-F0149436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466BE-E1D7-4058-B004-9D7B4772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5BDAB-78B2-4E31-9EC4-15AD6049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FE410-02ED-4BA8-BFC0-1C481626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C83C5-D5C2-459E-B07C-3357379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E6287-7132-422C-B957-5E4CB16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ECE7D-5C5D-42F9-9860-94798A3A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D05A5-4F69-4F56-B675-2526D426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9BD19-D786-40D9-8CAB-AC5231E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946D6-9B39-4962-BEA6-CD29E921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62D0-9671-4397-BF7D-BA91382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24A2F-9472-4414-8529-C7FE2D6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7DEBF-D79D-407F-A4D3-22A1E56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2B4D6-8DAC-406A-8D1E-3BCF394C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35BAA-1D44-4BA4-A0EA-34FF2060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FE7A2-14AA-483C-ADA4-24D020C4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FD9D5-D870-4A1B-BA90-45E5B678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BF11A-CF27-4BF3-8BE9-FEA31F0E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D2404-24E4-46CB-BED4-59C5497E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9C3B2-29B5-4DA8-9CE4-141F09F4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0570E-4D21-4C6A-AB58-C8045F78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696F-1E88-4305-B06A-0DFE716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00D86-5738-4816-83AC-E43C03DF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F1376-4CB0-4EF4-92CF-6D906427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40A02-7D17-445A-A236-7AFA284B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052F5-E45F-4460-84AA-B34DBC6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7521D-F86E-4256-B7FB-F59ADE81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D52FF-005D-46D0-8DE4-FC33BD73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F00C2-9070-4213-B5DC-3BEE3386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F2D9A-8C94-4426-AD84-9DB5C295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3DB12-F1AF-4586-940B-13847AA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6B4D5-FB3B-476F-9837-BB84116E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CE9F-EB19-480C-BECA-271592EB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91870-39BC-40E9-980F-DBD17151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1760A-0E0F-4E33-8A3B-4AB2BFE9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1608F-B00D-48F9-AC30-700185DB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A0D56-5ABB-4B1A-B740-4D5B5B6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1BDD0-7573-43CB-95C7-5AA9439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FF738-10AB-4724-8C00-877D42CF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AD6A8-A075-4384-9642-97AA3D7C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7670F-59D8-4473-964E-F7F6916A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FEB7B-0415-488F-A8E2-0C5D374B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9CCA9-5C0A-4D64-9155-79A214F4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5AD1-9D77-4E14-A4A8-815FB01D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5F970-ED99-4431-922E-5169849B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7550F-0D9D-4039-AC32-FD2C589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88F9E-96AE-45CF-9483-529B73F8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5C8B3-F315-47C3-BB03-F3EC75AE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969B3-1B6E-403C-8DEB-29D7788E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1475F-E7E2-47AF-8B79-E72960A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C696A-C3CC-43A3-B421-7BFCB62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C3E84-31C1-4305-910F-3C16274E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536D0-9AC2-4D2D-8A23-8B0F8602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1086E-481E-4250-B5FC-64DD017F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6F29-1F63-497E-B712-7473017B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190C8-DFDC-4848-83EB-B1F52509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93661-C274-49E8-8480-F342E9E6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964C2-1B3A-480C-83A9-44585716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6AB11-5327-4891-966E-B3D3E2F6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DD216-4C78-4BE9-83E4-D63B085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0D81B-7A29-4C9D-8C37-B24C502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049B3-9CCE-493E-B600-FF74A326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5CFF7-61E4-4B91-9604-463D5C1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8D5A6-FA30-4F11-BFB6-44A1187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8BF83-6A15-41A6-BA35-9BE860C1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768B-627F-4812-A6F8-4BD94E1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E45E8-B04A-4F96-B6DA-1FEE0994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EFB0D-9ED6-4441-B90D-80BC3A37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B9188-C532-4EFA-B010-94498116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5EAFF-94AD-494E-81D1-2B4EC55E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4117A-6F7F-4855-AA95-C12045F3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F32FB-2992-4468-AF6B-AB708626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8CFA7-3682-4C20-BFE9-C6623F0D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BA27D3-1FC8-46AC-8E7F-0B5CAFFB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A479A-90D1-4600-B42C-7224D596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5B896-8840-42AF-AC31-4618B32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25E-2B4F-4B14-8125-0CC03A7B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E32D-FC5F-4000-8D79-8C7A026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A78F6-0860-4F0D-A67E-3BED9C03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F3EE9-F889-48FB-9016-13C8DA5A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253D0-4A9D-4C60-81FC-2CADDC36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8D3D8-31C2-4865-B26D-34E71094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49F5F-3532-4A41-959E-E51BA552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C0B24-2E48-47BA-B188-37E5B0BE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80D5C-71CE-4540-8BB8-F287273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8C431-2960-4E0F-956D-517363E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807B9-CB62-4F98-A2D5-26E827F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2F50E-ECCF-4D06-A0EC-6BAB773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5C30-0650-40E0-AA51-7FED386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B5487-8428-4048-8A8B-62161A9A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A6901-0A38-4737-99BC-92132EA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FFA53-EB1A-4501-B906-222F7910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8FC95-D8DA-45D8-89FC-CB124832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45B0E-DDC2-4A0A-8A5F-F29A6BD0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E52CD-1B3A-49CB-99F8-F2B852FE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0BB17-D439-4CBF-AF94-CC6CBB60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5C614-E6EC-4294-A0BB-0C3CF3C3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7D607C-9222-431B-9D01-9BABEFF0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0D800-E362-432D-85D6-A19D57D4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8F00-AE2C-42F4-9B1F-1CE7B578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E9FE3-FC81-4B10-9EE1-3701DED1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48F3DF-703B-4A4B-AC91-CF61BFD9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1F010-2971-45C2-99FD-5B0F2AF5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17D97-F499-487B-B417-C64D959D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EC93F-23BA-4BAF-90DB-24A6CBD6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68D2C9-243E-4BE8-B8DB-9CE7E2F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3194F-DA62-44FF-8EAD-235301D4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1FE0E-C34E-4A0C-884B-B8CF518E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BDDE4-269C-47BE-9F75-3EF972C7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E9D4C-4B57-49A8-BC50-F516D89A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0C77-6BE4-496F-8A1C-3590A03F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F53ED-64C9-4FEA-BEB9-FC1B2F56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C4EE6-A71A-4012-8511-38BE8829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3B51DD-79C3-453B-BDD2-D14FDC98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C263C-B6BF-4D12-8DBF-8F40E56A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E3B2D-29A0-4483-8F9E-2A18E3CE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D7E31-9DB3-47F5-96FB-4A043BD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E5BEC-8C08-4DC0-B8EC-4462DC39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9FC76-0624-4A54-A73D-74241B4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4CA48-CD92-4219-AD3B-D8B522A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B73C1-7B0D-4413-AB04-D1C7E42B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35DD-942C-44C6-851E-05E6C17A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D1585-5BD5-4A10-A04D-95DC322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8E662-2796-4172-830C-562A92C6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59E83-745B-46E1-9B50-D96114CB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ADF3D-8726-453F-82C7-B2BFA84D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AE26DD-F371-49C4-9CE0-D369BBDC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E6F7E-9FB6-41D7-BD98-E707408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7F7C60-8C5B-48AA-A575-7D1C07E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F0A8D-6D26-43B0-8D28-8D6AE3C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7EA3EE-9687-4680-88BA-04A1C8C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BCEEF-22F9-4D5C-A6A5-7C0A35D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0875-24E2-406C-9717-856B895B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73A9B9-28B5-4C89-B646-25BD975F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59FE8-374D-47C0-9EC2-45167D19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8D9BFB-DF7A-4398-B7E6-70D718C8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7AB409-8BD4-421A-A16F-025D0561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B4CBF-2834-46C6-A38F-DA9B764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F5D84E-A1A3-4793-AD01-8C4011B5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BA1095-6017-44BC-B004-898EB56D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2DB770-615A-4CFF-99D0-BE147C8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D4142F-B895-4B51-A73D-0FB02AA4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83D831-065B-4F66-B806-464159E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B3AD-5C7C-4311-AD17-C0CB8C04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B33FF8-6057-4D63-9717-6A476DD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96631-5530-40AD-8271-3C85A08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E75644-9174-40E2-AEC7-D43F8B7F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6237D4-4B16-472A-8673-C041ADBC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FDB20A-79F9-46ED-9D33-0CB54ACB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063B57-D502-4027-B958-B8AEACF0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D8C5BA-28B5-44D5-859F-8CAFD751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2B9194-4EF6-4476-82ED-4BD8A81D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40354F-6A78-41DD-8523-F845D29F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EFC736-0CF4-4E79-A1F9-D1094A2A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0E25-A12C-42E2-AD79-CBE54BB4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171BFF-4396-43F5-B4FB-663EA864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C46EA3-6277-472D-BF80-0C980BB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CE6A8-B1A2-4AA8-B99D-F47870A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C2FF15-3681-4EAD-B8DE-1C1CD228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7A8341-F8BA-4D78-9F48-22170344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6544EE-19B4-4760-9CD8-A3CD2FB6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DAD35A-3811-4C81-9F47-5FAE592A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F4F2-62F5-43B3-B5D1-35741290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EDC3-3267-49EF-A7A8-B13B2AC5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64A-151B-4A1F-8C22-8DB4704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A8164-1FD6-4A7F-99A8-D6CC34F2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AAD2-8F6E-4E76-A3D6-F292FEA6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3816-D641-47A7-9851-A63AC33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3F9B-6335-47A0-8A2E-F8AE728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F7C4-26AB-4F91-9050-C96774A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9D8A-B0A4-48BD-92A2-13F3AB5A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7F3D-6AFA-43B1-B8FC-E84138AB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70983-446A-4CF9-A468-E8B04C94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5056-3893-4709-AB59-8E0DE9D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C9AB-7E9D-4FD2-8846-1F41F961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C21-346A-4A23-940B-740121E0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2926-E4AE-4FCB-946C-0D0B2F9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9D92-878D-4547-90D8-5ACCB689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3406F-B069-4F3E-9C4C-C2695345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F4EEE-8DF1-496C-BB4D-B43D05B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57E2-499B-4C51-B6DB-30A49C36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D271-0193-4765-B4B5-ABB4BB1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3922-4A3F-4C8B-9161-F2859FEA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980B7-41B1-4FFD-852F-BF429094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FEF3-DBEA-427A-A13F-2C6209EC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CD3E7-2668-4395-8BD4-1586AE61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4A3-DDF1-4D66-A6AD-74259399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AC24C-0587-4AF0-8604-02614C78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C6F6-27DB-47CF-8DC9-7FAA2DEF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C7F5-AD0E-475C-86CA-80A4DE06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FE38B-630A-4438-A67B-37028FF9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DF402-519D-4802-A1CB-8EEF1FE1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613D-C8D7-4CB5-8CEE-C7AA5EE9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6D4D-AB96-4990-911D-390567DE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114C-4521-455D-B540-328B472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3186-5EFE-479B-8C3B-86633450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58FB-8435-4471-8AFB-C66514B7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A78-836C-4187-A497-703B9CFE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38A2-CE71-42F2-9649-204C7876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B4256-FB9D-478B-93C6-6076BE58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ADB64-1928-45B1-8399-7BD7CEB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97389-A355-4FCD-B143-2F0AE12B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2E7CE-A930-4CCC-9465-9BD37985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6195B-E1C6-4FD6-B929-FC90B94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9B38A-A333-4D7E-8397-788FA82E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FC9D5-79E6-487B-A78B-349E80C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51CA-4E11-4B1E-AD80-76FD851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685DD-AF8B-4CB3-B16F-2E1BED3A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FF7-4E45-4371-88DA-5E1EA52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7404-F0AA-4476-8E00-ADA4DC4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43AC-6888-4CD6-B9D5-A2C45EBD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66D76-0D77-45ED-B184-F88C29DC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51FB-A83F-4A0F-9643-8A1DD122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C5744-DC15-48FD-AAB7-4A6BE11E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F5AC2-221C-4AA2-9AA4-F9067A38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6F73C-E70B-40D0-870D-D949CED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35D63-9469-4245-8BB3-178E722D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43DF2-E0F9-429A-8A71-CB9931F4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BE04-FEE2-4661-9E3F-0E5249A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9EB-3BFE-483C-B9D6-3BB1C5D4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659F3-2F11-4DBA-9022-195BC7B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ECEB7-1FF7-4C23-9174-0EBC2CA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03FBA-6026-47EA-AC41-D2F4E28B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8FECF-A552-4E49-AD70-0D93F62C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B6F2E-B96F-4E18-8423-94EBD0FD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76C2D-7AB7-4ECB-8E3B-D3FC2675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8BF85-7D58-46C5-BA1E-C84759E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91ABB-93E9-4AD3-96FC-6589BE7C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80B00-DA05-45F4-ACC5-E1F0FE23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3C3F1-747C-4B8C-828C-D6111EBB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573-5D5D-4201-88AE-40AEA32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8EA81-3381-4796-9A2E-8E74E347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9B719-F3AC-480F-B44A-9CA56285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C86AC-0D58-4399-B88C-AFE3245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E7235-A1D9-47EB-99CD-F68A95E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434A1-44A6-4EF8-A831-3B32589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D8B5D-0942-4558-BD7C-225799AC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2BBCC-158C-4AB8-9736-81233659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489EE-1CBB-466D-AF4E-9AB3AE05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96D85-25FF-496A-A6CC-3AA1AF65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B6C0E-1759-4462-B1C6-D08F8259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C116-A70B-41AB-8425-2B2C7CDB5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BABB-7DA5-43D2-AAC1-36ADF2BA7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FEC6-AA9D-4A15-8CF6-89DA5B06B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3B5A-E613-4398-A7AF-DB411AF11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170A-A2A1-41F6-8EB0-BA477E480C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A102-F01D-497E-BAEB-011791E92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5FB5-3845-41D1-8E80-D2873F7B2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05E-3A4E-4F53-901F-59B155F98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020A-DE63-4206-B2D1-03712E67B0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E711-4284-4E3F-B939-F2A78ABDCB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CF6F-8EE4-4540-B09E-F41D6EFF1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150D-C608-45B8-9B03-58867D61F3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2A1D-E13D-43C8-9201-47489700A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47D-C754-4B81-9F66-57335875C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4247-027F-4015-8604-ED37CD607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8613-5989-45CD-B79B-1461607EDB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6DF-0C9B-4275-A88C-CFFD71D33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E63F-8321-421A-9897-990CA18BEC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DC9D-4054-4D54-9AF8-FB58A0582A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977-9210-4223-88A5-18D11F1B6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A138-B117-4C68-A6B7-A8B7182BAB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671-8B0A-43F9-80CC-E604F41FA8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62FC-B7D3-4702-A447-DD7183D19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46A2-25A8-479E-8E80-B116D7285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1244-14A8-4A4D-850F-3B68F6AF3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999A-44CF-4E1B-AF07-921B9F8F8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93BB-1346-4F88-9B69-81F8710136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C7B-FCAD-4D92-BFEF-506DA06866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089-5B4A-45EE-8BF6-08A9857BDD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E18E-4DB3-4020-9625-984A7B115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E159-BB80-44CF-B510-C411E22D3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55B-96AA-41DE-8AE3-A5C556DC9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CC50-992D-430A-A11D-BE9C213605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86D9-8219-49F9-8E10-6A657F303D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4FFE-C092-4538-8F0D-5916BE006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E0B5-B887-4308-AE5E-141A0F990F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FED4-F194-416D-B027-DD7F63092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E129-C3C6-4767-967C-C6B7BE3A0F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A90-B54E-402E-B1A0-0DF6E2615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C39C-43E1-49A2-BB2D-EBEA19DF13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172-E548-410D-8A6D-09C10D0F4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614-5FBA-4AD3-BEAB-C74BA0414A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06200" y="3036960"/>
            <a:ext cx="89316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181080" y="906480"/>
            <a:ext cx="8781840" cy="54561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900000" y="5791320"/>
            <a:ext cx="50508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2627280" y="580536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4284720" y="580536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6012000" y="580536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7667640" y="580536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190440" y="706320"/>
            <a:ext cx="8763120" cy="60087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2627280" y="3184560"/>
            <a:ext cx="3240000" cy="406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1619280" y="378936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6329520" y="3773520"/>
            <a:ext cx="1079280" cy="4064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4500720" y="4394160"/>
            <a:ext cx="1584000" cy="40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6"/>
          <a:stretch/>
        </p:blipFill>
        <p:spPr>
          <a:xfrm>
            <a:off x="900000" y="4998960"/>
            <a:ext cx="1584360" cy="4064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7"/>
          <a:stretch/>
        </p:blipFill>
        <p:spPr>
          <a:xfrm>
            <a:off x="971640" y="5589720"/>
            <a:ext cx="1584360" cy="4064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8"/>
          <a:stretch/>
        </p:blipFill>
        <p:spPr>
          <a:xfrm>
            <a:off x="900000" y="618012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9"/>
          <a:stretch/>
        </p:blipFill>
        <p:spPr>
          <a:xfrm>
            <a:off x="5796000" y="6194520"/>
            <a:ext cx="1008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图片 1" descr=""/>
          <p:cNvPicPr/>
          <p:nvPr/>
        </p:nvPicPr>
        <p:blipFill>
          <a:blip r:embed="rId1"/>
          <a:stretch/>
        </p:blipFill>
        <p:spPr>
          <a:xfrm>
            <a:off x="204840" y="2252520"/>
            <a:ext cx="8732880" cy="23529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2"/>
          <a:stretch/>
        </p:blipFill>
        <p:spPr>
          <a:xfrm>
            <a:off x="1979640" y="2262240"/>
            <a:ext cx="2016000" cy="4064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3"/>
          <a:stretch/>
        </p:blipFill>
        <p:spPr>
          <a:xfrm>
            <a:off x="6372360" y="2881440"/>
            <a:ext cx="936360" cy="4064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4"/>
          <a:stretch/>
        </p:blipFill>
        <p:spPr>
          <a:xfrm>
            <a:off x="1187280" y="3471840"/>
            <a:ext cx="936720" cy="40644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5"/>
          <a:stretch/>
        </p:blipFill>
        <p:spPr>
          <a:xfrm>
            <a:off x="6156360" y="3486240"/>
            <a:ext cx="1584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9240" y="752400"/>
            <a:ext cx="8705520" cy="53532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04840" y="752400"/>
            <a:ext cx="8732880" cy="5353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314280" y="2585880"/>
            <a:ext cx="8515440" cy="16862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223920" y="1023840"/>
            <a:ext cx="8694720" cy="4810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1979640" y="1657440"/>
            <a:ext cx="129708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6877080" y="2262240"/>
            <a:ext cx="129708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4427640" y="3457440"/>
            <a:ext cx="129672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4859280" y="4048200"/>
            <a:ext cx="1297080" cy="406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3851280" y="4667400"/>
            <a:ext cx="12970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09520" y="984240"/>
            <a:ext cx="8724960" cy="53150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7264440" y="2205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244980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3419640" y="3990960"/>
            <a:ext cx="417672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084720" y="5186520"/>
            <a:ext cx="2664000" cy="4060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755640" y="5805360"/>
            <a:ext cx="2664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247680" y="2486160"/>
            <a:ext cx="8648640" cy="104760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2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666280" cy="17146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755640" y="3054240"/>
            <a:ext cx="403236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611280" y="4738680"/>
            <a:ext cx="374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85760" y="1062000"/>
            <a:ext cx="8771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195120" y="1924200"/>
            <a:ext cx="87519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2:3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